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20EB-B621-43D3-9E1B-472AA22F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CC1-A68B-40C8-9FA9-5FD7C257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2BF-8099-491B-AE73-2B89AF57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DA7-92B5-4700-92D9-F77972BF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2F8-2E66-49FD-8588-24367BCF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79A-D056-4D4B-A087-14871383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0366-EB6C-4BCF-A01C-AE9FC4F3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453-B659-4CDB-BB3C-550C4DC9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4DF-63BD-40CF-9EFD-466CDC0C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2D6-25CE-4F2B-BE64-5984512B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C02-1F79-43C5-B2E9-08CCB95C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715-C8DC-40C7-946E-AB5B8D0C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E345-76D8-4E6A-93F5-E3F73F6B9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221_wallpaper28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173600" y="4327560"/>
            <a:ext cx="6926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حكاية حبَّك للكِل حكي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ما في مطرح إلا ما كتب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مكن نحن كبرنا ونسي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جعنا زغار منفهم معنا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92760" y="0"/>
            <a:ext cx="84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قمحة اللي انزرعت ب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وت وتنمى وتزهّر 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ناس لْ منشوفن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َ در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ِتلاقو بوجَّك فينا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2000358eocWgsHZvH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1509120" y="4568760"/>
            <a:ext cx="846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قمحة اللي انزرعت ب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وت وتنمى وتزهّر 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ناس لْ منشوفن عَ در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ِتلاقو بوجَّك فينا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3040" y="0"/>
            <a:ext cx="692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نسّينا الكِلمة لْ قلتا عن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نتو ملح الأرض وإنتو نور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تركنا ضلك ساكن ع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خلينا نكون عندك أجمل صور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6185893tpZAUN_ph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owerandglory" descr=""/>
          <p:cNvPicPr/>
          <p:nvPr/>
        </p:nvPicPr>
        <p:blipFill>
          <a:blip r:embed="rId3"/>
          <a:stretch/>
        </p:blipFill>
        <p:spPr>
          <a:xfrm>
            <a:off x="0" y="-144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15240" y="0"/>
            <a:ext cx="713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حدك إنتَ بعتم الدرب سراج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إنتَ الكنز لْ ما منتخلى عنو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لطرقات الخِطرة تبقى سياج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صّلنا لنبعك وسقينا من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1720" y="3429000"/>
            <a:ext cx="570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قم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لي انزرعت بقل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وت وتنمى وتزهّر مح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شا الله النا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لْ منشوفن عَ دروب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ِتلاقو بوجَّك فينا يا رب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6:24:44Z</dcterms:created>
  <dc:creator>USER</dc:creator>
  <dc:description/>
  <dc:language>en-US</dc:language>
  <cp:lastModifiedBy>USER</cp:lastModifiedBy>
  <dcterms:modified xsi:type="dcterms:W3CDTF">2003-02-08T06:46:57Z</dcterms:modified>
  <cp:revision>3</cp:revision>
  <dc:subject/>
  <dc:title>PowerPoint Presentation</dc:title>
</cp:coreProperties>
</file>